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89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1120" cy="3346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47692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47692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ADA6-0511-41CE-B615-34B25F3BE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1120" cy="334656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477280"/>
            <a:ext cx="2971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60D2-0090-4B96-A658-5D969FBED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8FBF-77B7-4388-9CFF-5192B51FA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957B-7020-4FC6-A1F4-A5CA2870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C102-EB37-4C1F-83AA-490F4E70A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998F-1523-49F4-B2E7-D429B9834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D966-6E69-43A5-875D-BE157421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E4D4-D9C9-4750-A040-E95104D8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6A0C-3B95-4774-A3AF-B2BD7B0E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8AB2-D46D-42DC-A007-F68DA092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4D74-4339-4828-AC38-A4B3008A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8689-87BF-4656-BB37-DCE72092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2EDE-47F5-4969-B075-F800DEC6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523E-EE4D-466B-9C64-3B9255AE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CD16-61A1-4DE1-BC47-7C0441C89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2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04920" y="380880"/>
            <a:ext cx="3962160" cy="5257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80880" y="59436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iu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4876920" y="380880"/>
            <a:ext cx="14475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4648320" y="1890720"/>
            <a:ext cx="4190760" cy="49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 Fact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lium does not react with air, even under extreme condi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State: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ification: Non-metal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overed by: Sir William Rams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: 18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: London, Eng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: filling balloons, cooling medium for nuclear reactors, &amp; pressurizing liquid fuel rocke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4952880" y="64008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yla Stansb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380880" y="160020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6"/>
          <p:cNvSpPr/>
          <p:nvPr/>
        </p:nvSpPr>
        <p:spPr>
          <a:xfrm>
            <a:off x="4724280" y="304920"/>
            <a:ext cx="1143000" cy="137160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6" descr="Emma's first birthday balloon is filled with helium and so rises in air."/>
          <p:cNvPicPr/>
          <p:nvPr/>
        </p:nvPicPr>
        <p:blipFill>
          <a:blip r:embed="rId1"/>
          <a:stretch/>
        </p:blipFill>
        <p:spPr>
          <a:xfrm>
            <a:off x="304920" y="380880"/>
            <a:ext cx="3962160" cy="52578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7"/>
          <p:cNvSpPr/>
          <p:nvPr/>
        </p:nvSpPr>
        <p:spPr>
          <a:xfrm>
            <a:off x="6172200" y="533520"/>
            <a:ext cx="29718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9"/>
          <p:cNvSpPr/>
          <p:nvPr/>
        </p:nvSpPr>
        <p:spPr>
          <a:xfrm>
            <a:off x="6095880" y="457200"/>
            <a:ext cx="27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nuclear reactor2.jpg"/>
          <p:cNvPicPr/>
          <p:nvPr/>
        </p:nvPicPr>
        <p:blipFill>
          <a:blip r:embed="rId2"/>
          <a:stretch/>
        </p:blipFill>
        <p:spPr>
          <a:xfrm>
            <a:off x="6477120" y="4114800"/>
            <a:ext cx="2350800" cy="2351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VNN0SCAZLRBI6CAQJO1SLCAI8658OCASJYB3JCA97E8E3CAKGR4VHCAXAXNQFCA20JB62CA3HMKTZCAHKXV16CA6FWLCZCA0WTRL2CAJS85HMCAZQF2BACA3WDMFFCACGYHNPCA57BKI0CA0FN8SOCATCQ0QF.jpg"/>
          <p:cNvPicPr/>
          <p:nvPr/>
        </p:nvPicPr>
        <p:blipFill>
          <a:blip r:embed="rId3"/>
          <a:stretch/>
        </p:blipFill>
        <p:spPr>
          <a:xfrm>
            <a:off x="304920" y="4267080"/>
            <a:ext cx="3062160" cy="2308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helium-ballong-flyg-220.jpg"/>
          <p:cNvPicPr/>
          <p:nvPr/>
        </p:nvPicPr>
        <p:blipFill>
          <a:blip r:embed="rId4"/>
          <a:stretch/>
        </p:blipFill>
        <p:spPr>
          <a:xfrm>
            <a:off x="0" y="30492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blimps.jpg"/>
          <p:cNvPicPr/>
          <p:nvPr/>
        </p:nvPicPr>
        <p:blipFill>
          <a:blip r:embed="rId5"/>
          <a:stretch/>
        </p:blipFill>
        <p:spPr>
          <a:xfrm>
            <a:off x="1752480" y="2209680"/>
            <a:ext cx="2057400" cy="1546200"/>
          </a:xfrm>
          <a:prstGeom prst="rect">
            <a:avLst/>
          </a:prstGeom>
          <a:ln w="0">
            <a:noFill/>
          </a:ln>
        </p:spPr>
      </p:pic>
      <p:pic>
        <p:nvPicPr>
          <p:cNvPr id="64" name="Rectangle 7" descr=""/>
          <p:cNvPicPr/>
          <p:nvPr/>
        </p:nvPicPr>
        <p:blipFill>
          <a:blip r:embed="rId6"/>
          <a:stretch/>
        </p:blipFill>
        <p:spPr>
          <a:xfrm>
            <a:off x="2889360" y="12600"/>
            <a:ext cx="6035400" cy="1200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" descr="nuclear reactor.jpg"/>
          <p:cNvPicPr/>
          <p:nvPr/>
        </p:nvPicPr>
        <p:blipFill>
          <a:blip r:embed="rId7"/>
          <a:stretch/>
        </p:blipFill>
        <p:spPr>
          <a:xfrm>
            <a:off x="4724280" y="4495680"/>
            <a:ext cx="2590920" cy="19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6:28:15Z</dcterms:created>
  <dc:creator>ecofs165</dc:creator>
  <dc:description/>
  <dc:language>en-US</dc:language>
  <cp:lastModifiedBy>rtc11</cp:lastModifiedBy>
  <cp:lastPrinted>2004-01-30T14:35:58Z</cp:lastPrinted>
  <dcterms:modified xsi:type="dcterms:W3CDTF">2010-07-27T14:11:59Z</dcterms:modified>
  <cp:revision>12</cp:revision>
  <dc:subject/>
  <dc:title>PowerPoint Presentation</dc:title>
</cp:coreProperties>
</file>